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7935-0BA4-4BBE-8D65-6076E85F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7672-A210-4DA3-B1AE-2DE5AB5F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CA68-0DC7-4F4C-8549-8D169B91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BA6-F4C4-4A21-B03E-0E2B02B3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04D-4A8A-4C41-B996-2593EF50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3873-F4CB-4089-B0B2-A3EE7AA2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ABF-D227-4A6D-A37A-3EF6BB23D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6C8-13BF-430B-B6F8-63A49BCA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EF3-44FC-4C6E-BF3B-3217F260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0B8C-73FF-4BFE-A255-EC03BF25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95D9-D93E-400C-9F82-3C7792AB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B18-06AB-4DC0-B4FC-2C86075D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ea02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AEE2-078F-4B67-B75D-D0F62AF1C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owellhealth.com/american-flag.gif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litical Part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merican-fla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3581280"/>
            <a:ext cx="4572000" cy="2870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american-flag"/>
          <p:cNvPicPr/>
          <p:nvPr/>
        </p:nvPicPr>
        <p:blipFill>
          <a:blip r:embed="rId3"/>
          <a:stretch/>
        </p:blipFill>
        <p:spPr>
          <a:xfrm>
            <a:off x="2971800" y="304920"/>
            <a:ext cx="3429000" cy="21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2000 election was very 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hird party called the Green Party received about 2% of the vote for their candidat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lph N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on no electoral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his votes had gone to Al Gore and the Democrats, Gore would be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Greens w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i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, they helped the Republicans win the 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1" descr="Nader,Ralph"/>
          <p:cNvPicPr/>
          <p:nvPr/>
        </p:nvPicPr>
        <p:blipFill>
          <a:blip r:embed="rId1"/>
          <a:stretch/>
        </p:blipFill>
        <p:spPr>
          <a:xfrm>
            <a:off x="349200" y="1371600"/>
            <a:ext cx="4175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Bull Moose”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amo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i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ction was in 19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ddy Rooseve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d already served 2 terms as President as a Republican, but decided to run again as a member of the new “Progressive Par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on enough votes to cost the Republican, William Taft, to lose.  He helped Woodrow Wilson become the first Democrat elected since Grover Cleve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02906"/>
          <p:cNvPicPr/>
          <p:nvPr/>
        </p:nvPicPr>
        <p:blipFill>
          <a:blip r:embed="rId1"/>
          <a:stretch/>
        </p:blipFill>
        <p:spPr>
          <a:xfrm>
            <a:off x="4767120" y="1371600"/>
            <a:ext cx="38941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Issues Mainstr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 third parties can get enough support on certain issues, that major parties will pay attention to those iss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opulist Party in the early 20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entury never elected a Presid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wever, the their ideas for the 8 hour workday and direct election of the Senate became reality.  Other worker protections also, including child labo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ohibition party was successful enough to get the 18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mendment passed in 191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Children at Work"/>
          <p:cNvPicPr/>
          <p:nvPr/>
        </p:nvPicPr>
        <p:blipFill>
          <a:blip r:embed="rId1"/>
          <a:srcRect l="4592" t="3483" r="4592" b="4142"/>
          <a:stretch/>
        </p:blipFill>
        <p:spPr>
          <a:xfrm>
            <a:off x="415800" y="1523880"/>
            <a:ext cx="4121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. Ross Per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. Ross Pero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a billionaire from Texas who decided to run for President in 199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published books, bought TV specials and got a lot of atten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founded the Reform Party and got 19% of the vote in 1992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received 8% of the vote in 199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didn’t run in 2000 and the party split in two and got less than 1% of the vote national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was a typical one-man party in that it achieved quick success, but died off quick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http://upload.wikimedia.org/wikipedia/commons/thumb/8/80/Ross_Perot.jpg/225px-Ross_Perot.jpg"/>
          <p:cNvPicPr/>
          <p:nvPr/>
        </p:nvPicPr>
        <p:blipFill>
          <a:blip r:embed="rId1"/>
          <a:stretch/>
        </p:blipFill>
        <p:spPr>
          <a:xfrm>
            <a:off x="4952880" y="1752480"/>
            <a:ext cx="335304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arty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Multiparty System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there ar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ny parties competing for power in gover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st common type of syst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used in most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urop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ad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ap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rae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long with many oth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allow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 views to be represented in gover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can be difficult for a party to achieve a maj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often have to form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alit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lliances with other par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n also be easier for extreme parties to get into pow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 this type of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0129israeli173"/>
          <p:cNvPicPr/>
          <p:nvPr/>
        </p:nvPicPr>
        <p:blipFill>
          <a:blip r:embed="rId1"/>
          <a:stretch/>
        </p:blipFill>
        <p:spPr>
          <a:xfrm>
            <a:off x="4648320" y="2158920"/>
            <a:ext cx="4267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ise of Nazi Germ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3712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lph Hitler and the Nazis were a political party in Germany in the 1930’s, during the Great De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became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rgest party in government after the 1933 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ler was named Chancellor,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ighest leader i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used that position to take control of the country, put the Nazis in control and began World War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hitler2"/>
          <p:cNvPicPr/>
          <p:nvPr/>
        </p:nvPicPr>
        <p:blipFill>
          <a:blip r:embed="rId1"/>
          <a:stretch/>
        </p:blipFill>
        <p:spPr>
          <a:xfrm>
            <a:off x="511200" y="1295280"/>
            <a:ext cx="3732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ritish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land has a well-functioning multi-part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mainstream parties that hold most of the seats in government (Labour and Tory Parties).  This protects from extrem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there are also several other parties involved and holding power, representing a wide variety of views, including the Scottish Nationalist Party and the Social Democrat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tional leader, or Prime Minister, is the leader of the party currently in the maj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Head and shoulders of a smiling man in a suit and striped tie with dark, greying hair and rounded face with square jaw"/>
          <p:cNvPicPr/>
          <p:nvPr/>
        </p:nvPicPr>
        <p:blipFill>
          <a:blip r:embed="rId1"/>
          <a:stretch/>
        </p:blipFill>
        <p:spPr>
          <a:xfrm>
            <a:off x="5105520" y="1417680"/>
            <a:ext cx="32763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parti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st important rol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f parties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recruit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nominate candidates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also seek t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ubliciz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d educate the public on important issu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y also keep an eye on other parties to keep them hone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aise money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 and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lan campaigns for candida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Candidat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is someone running for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Campaig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is an effort to convince the public to elect a candid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http://upload.wikimedia.org/wikipedia/commons/thumb/0/08/Hillary_Clinton_Feb_3_2008.jpg/220px-Hillary_Clinton_Feb_3_2008.jpg"/>
          <p:cNvPicPr/>
          <p:nvPr/>
        </p:nvPicPr>
        <p:blipFill>
          <a:blip r:embed="rId1"/>
          <a:stretch/>
        </p:blipFill>
        <p:spPr>
          <a:xfrm>
            <a:off x="200160" y="2590920"/>
            <a:ext cx="44463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minating Candi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different methods to nominate a candidate for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ary el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al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ters to choo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o will be a party’s 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u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ing of party me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lect a 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arty conv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atives of party me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any different areas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et and choose a 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91096"/>
          <p:cNvPicPr/>
          <p:nvPr/>
        </p:nvPicPr>
        <p:blipFill>
          <a:blip r:embed="rId1"/>
          <a:srcRect l="24529" t="2566" r="1398" b="852"/>
          <a:stretch/>
        </p:blipFill>
        <p:spPr>
          <a:xfrm>
            <a:off x="4572000" y="1981080"/>
            <a:ext cx="434340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mary El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95680" y="137160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mary elections can either by “open” or “closed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Open Primar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nyone can vote, regardless of party membership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 This is how primaries are held in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Closed Primary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ly registered party members can vo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 Presidential nominations most states hold a primary elec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rst Presidential primar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held each election year in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ew Hampshi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 states still use a caucus to choose a Presidential nominee. 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rst caucus is held in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Iow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http://upload.wikimedia.org/wikipedia/commons/thumb/0/05/McCain25April2007Portsmouth.jpg/220px-McCain25April2007Portsmouth.jpg"/>
          <p:cNvPicPr/>
          <p:nvPr/>
        </p:nvPicPr>
        <p:blipFill>
          <a:blip r:embed="rId1"/>
          <a:stretch/>
        </p:blipFill>
        <p:spPr>
          <a:xfrm>
            <a:off x="304920" y="2260440"/>
            <a:ext cx="380988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Pa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itical Par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groups of people with similar views who work to achieve politica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nomina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ndid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eople who wish to be elected to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political parties in almost every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function in different types of party systems, depending on their nation’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0" descr="Virginia Gov. Bob McDonnell gestures as he delivers the Republican Response to the State of the Union in the Virginia House of Delegates chambers at the Capitol in Richmond, Va. , Wednesday, Jan. 27, 2010."/>
          <p:cNvPicPr/>
          <p:nvPr/>
        </p:nvPicPr>
        <p:blipFill>
          <a:blip r:embed="rId1"/>
          <a:stretch/>
        </p:blipFill>
        <p:spPr>
          <a:xfrm>
            <a:off x="147600" y="2286000"/>
            <a:ext cx="4500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 Party Conv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every state has held its Presidential primary or caucus, each party hold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se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le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 choose the national candidate at the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ndidates make speeches and the delegates vote at the conven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rty also writes i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t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tatement of its official views on th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PLX011871"/>
          <p:cNvPicPr/>
          <p:nvPr/>
        </p:nvPicPr>
        <p:blipFill>
          <a:blip r:embed="rId1"/>
          <a:stretch/>
        </p:blipFill>
        <p:spPr>
          <a:xfrm>
            <a:off x="5105520" y="1295280"/>
            <a:ext cx="3555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968 Democratic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4267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68, the Democrats held their convention in Chic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y was very divided over the Vietnam War and Civil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dent Johnson had announced that he would not run for re-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ading candidate, Robert F. Kennedy had been shot and killed during the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maining candidates had to compete at the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ert H Humphrey got the nomination, but the party was damaged by riots that occurred between protestors and the Chicago Po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n, most conventions have been closely plan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vietnam2"/>
          <p:cNvPicPr/>
          <p:nvPr/>
        </p:nvPicPr>
        <p:blipFill>
          <a:blip r:embed="rId1"/>
          <a:stretch/>
        </p:blipFill>
        <p:spPr>
          <a:xfrm>
            <a:off x="304920" y="1981080"/>
            <a:ext cx="426708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Party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One-Party System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trolled by a single political par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are very efficient, able to take action quickly, without deba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wever, they are usually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ctatorship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ery few individual freedo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hin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North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Kore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ub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re some examples of current 1-party system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raq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as also a one-party system under Saddam Hussein and the Bathist Party until recentl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saddam"/>
          <p:cNvPicPr/>
          <p:nvPr/>
        </p:nvPicPr>
        <p:blipFill>
          <a:blip r:embed="rId1"/>
          <a:stretch/>
        </p:blipFill>
        <p:spPr>
          <a:xfrm>
            <a:off x="4800600" y="1447920"/>
            <a:ext cx="3952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til 1991, Russia was a Communist one-party system, known as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viet U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munist party was the only one allowed by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posing the party could result in prison, torture or de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arty owned everything and made most decisions for peo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was very little personal free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stalin"/>
          <p:cNvPicPr/>
          <p:nvPr/>
        </p:nvPicPr>
        <p:blipFill>
          <a:blip r:embed="rId1"/>
          <a:stretch/>
        </p:blipFill>
        <p:spPr>
          <a:xfrm>
            <a:off x="685800" y="1219320"/>
            <a:ext cx="338616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st Party has been in control of China since a revolution in the late 194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used to have a similar system to the Soviet 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still a one-party dictatorship, but they really aren’t very “communist”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ore economic freedoms, fueled by foreign investment, mostly from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hina0022"/>
          <p:cNvPicPr/>
          <p:nvPr/>
        </p:nvPicPr>
        <p:blipFill>
          <a:blip r:embed="rId1"/>
          <a:srcRect l="9435" t="0" r="5658" b="0"/>
          <a:stretch/>
        </p:blipFill>
        <p:spPr>
          <a:xfrm>
            <a:off x="228600" y="1960560"/>
            <a:ext cx="434340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-Party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o-Party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dominant parties control all or most of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citizens a clear cho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If they don’t like the job being done by those in power, they can vote for the other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tend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aving to appeal to wide group of people fo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tend to be ver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It help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ent extreme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hap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4" descr="http://cache.boston.com/universal/site_graphics/blogs/bigpicture/44_01_21/4435_17681729.jpg"/>
          <p:cNvPicPr/>
          <p:nvPr/>
        </p:nvPicPr>
        <p:blipFill>
          <a:blip r:embed="rId1"/>
          <a:stretch/>
        </p:blipFill>
        <p:spPr>
          <a:xfrm>
            <a:off x="4367160" y="2405160"/>
            <a:ext cx="454824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advantages of 2-Party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down side, they make it difficult for people who are out of the mainstream to have their voices heard i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ority groups can also have difficulty having their interests and needs paid atten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change can come about slowly if neither party pays attention to th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free-mumia"/>
          <p:cNvPicPr/>
          <p:nvPr/>
        </p:nvPicPr>
        <p:blipFill>
          <a:blip r:embed="rId1"/>
          <a:stretch/>
        </p:blipFill>
        <p:spPr>
          <a:xfrm>
            <a:off x="482760" y="1600200"/>
            <a:ext cx="4028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ted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19360" y="1447920"/>
            <a:ext cx="4724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.S. has almost always had a 2-party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lthough the parties have changed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ederalist Par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as the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rty in the U.S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s first President w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n Ad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was challenged by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mocratic-Republi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y, which has become the moder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cr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y.   Its first President w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mas Jeff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mocratic Par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publican Par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ve been the 2 main U.S. parties since 1860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an Part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founded by abolitionists in the 1850’s.   Its first President w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raham Lincol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Jefferson"/>
          <p:cNvPicPr/>
          <p:nvPr/>
        </p:nvPicPr>
        <p:blipFill>
          <a:blip r:embed="rId1"/>
          <a:stretch/>
        </p:blipFill>
        <p:spPr>
          <a:xfrm>
            <a:off x="506520" y="1676520"/>
            <a:ext cx="3581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Part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“third party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y that holds little power in a 2-part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very rarely elect people to office, especially at the national level.  They can be important though in 3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) They can affect elections as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oi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ing enough votes from one of the main a parties to affect the result of a close 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The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also make new ideas or issues popular enough that a major party adopts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they form around one popular candidate and draw attention for a limite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wallace"/>
          <p:cNvPicPr/>
          <p:nvPr/>
        </p:nvPicPr>
        <p:blipFill>
          <a:blip r:embed="rId1"/>
          <a:stretch/>
        </p:blipFill>
        <p:spPr>
          <a:xfrm>
            <a:off x="4952880" y="1905120"/>
            <a:ext cx="3973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0:26:26Z</dcterms:created>
  <dc:creator>Osama Agami</dc:creator>
  <dc:description/>
  <dc:language>en-US</dc:language>
  <cp:lastModifiedBy>PAMS</cp:lastModifiedBy>
  <dcterms:modified xsi:type="dcterms:W3CDTF">2010-03-12T20:58:14Z</dcterms:modified>
  <cp:revision>19</cp:revision>
  <dc:subject/>
  <dc:title>Slide 1</dc:title>
</cp:coreProperties>
</file>